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1674-A0EA-49FF-B99D-0FB61F5E9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0455-B2D9-43E2-BE82-5B77E053B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CFD5-FB55-413B-BCB3-FA86C6E19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0294-1ED1-4DA2-9058-445229FC2B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76F3A-AB21-495B-9C01-CDC51D06DF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EBB4-2DB2-4467-A7B4-9496FF963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922E-C1A5-493A-BC83-A1DFBB8DC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F316-D3E7-4637-B92D-4BBBCE239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82E1-1CEB-4E11-B0DB-E467BB616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F042-057C-4374-A7C9-5584A86DB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DF1D-7870-4FB4-9E25-4C9784DBE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F364-0AF8-40B7-8A27-8FE96DEE1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7052E5-D2F6-452F-A21B-1618B79F2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468360"/>
            <a:ext cx="822816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«Как вы думаете, можно ли провести хирургическую операцию, находясь в тысячах километрах от пациента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720720"/>
            <a:ext cx="822816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6000" indent="-21600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«Пётр получил сообщение на электронную почту от известного банка о том, что этот банк проводит опрос потребителей финансовых услуг. Петру предлагалось по ссылке на интернет-сайте пройти опрос и получить вознаграждение в 10 тыс. рублей. Для получения доступа к опросу требовалось перечислить со счёта телефона 200 рублей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В чём состоит опасность данной ситуации для личных финансов Пётр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Как ему правильно поступить в данной ситуации?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39640" y="720720"/>
            <a:ext cx="822816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Noto Sans CJK SC"/>
              </a:rPr>
              <a:t>СЕТЕВОЙ ЭТИКЕТ, или СЕТИКЕТ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это правила поведения пользователе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сети Интер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0" y="890640"/>
            <a:ext cx="2776680" cy="1449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606840" y="4319640"/>
            <a:ext cx="1973160" cy="1479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40000" y="1717560"/>
            <a:ext cx="6626160" cy="458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620640"/>
            <a:ext cx="842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важайте своих невидимых партнёров по Сети!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35280" y="2276640"/>
            <a:ext cx="532908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правила сетевого этик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14172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с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уйте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221000"/>
            <a:ext cx="302436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йте и уваж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его адрес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5300640"/>
            <a:ext cx="3024360" cy="631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ы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ему со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6165720"/>
            <a:ext cx="3024360" cy="520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ишите грамо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3068640"/>
            <a:ext cx="3671640" cy="863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жно выраж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моции с помощью смайл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148280"/>
            <a:ext cx="3671640" cy="86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запрашива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тверждения пол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общения без над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6093000"/>
            <a:ext cx="3671640" cy="50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допускайте сп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5229360"/>
            <a:ext cx="3671640" cy="663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надейтесь на пол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фиденциальность пере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2781360"/>
            <a:ext cx="1440" cy="360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3573360"/>
            <a:ext cx="936720" cy="18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4581360"/>
            <a:ext cx="64764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5589720"/>
            <a:ext cx="936720" cy="14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6381720"/>
            <a:ext cx="64764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5589720"/>
            <a:ext cx="647640" cy="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4581360"/>
            <a:ext cx="934920" cy="18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3573360"/>
            <a:ext cx="647640" cy="1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6381720"/>
            <a:ext cx="936720" cy="14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7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dur="indefinite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dur="indefinite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dur="indefinite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dur="indefinite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dur="indefinite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dur="indefinite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dur="indefinite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7200" y="468360"/>
            <a:ext cx="822816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«Хирургическую операци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можно провести, находяс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в тысячах километров от пациента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9211e"/>
                </a:solidFill>
                <a:latin typeface="Times New Roman"/>
                <a:ea typeface="Noto Sans CJK SC"/>
              </a:rPr>
              <a:t>Истина или лож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60360" y="0"/>
            <a:ext cx="619776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498560" y="720360"/>
            <a:ext cx="4189320" cy="54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Благодаря современным средствам коммуникации высококлассные специалисты на расстоянии проводят операци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Первую хирургическую операцию при помощи телекоммуникации и роботов выполнил 7сентября 2001года французский хирург Жак Мареско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Врач находился в Нью-Йорке, а пациент во Фран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Расстояние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амолетом: 5.937,79 km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50920" y="905040"/>
            <a:ext cx="3348000" cy="485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468360"/>
            <a:ext cx="822816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Noto Sans CJK SC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что нового я узнал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- с какими сложностями столкнул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- что для меня осталось непонят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§ 4.3, прочит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дготовить сообщение о социальных сетях (Вконтакте, Telegram, Whatsapp и др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a6099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79640" y="468360"/>
            <a:ext cx="760572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Что такое сервис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WWW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Что является его осново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Что такое гиперссылк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Что такое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URL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Из каких частей он состоит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8720" indent="-55872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Для чего нужен протокол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FTP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63640" y="1341360"/>
            <a:ext cx="5761080" cy="576360"/>
          </a:xfrm>
          <a:prstGeom prst="rect">
            <a:avLst/>
          </a:prstGeom>
          <a:solidFill>
            <a:srgbClr val="e8fafc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сурсы и сервисы сети Интерн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ми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айл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рх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2421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9bde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2421000"/>
            <a:ext cx="2087640" cy="865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рв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ллекти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698480" y="1917720"/>
            <a:ext cx="64800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82480" y="1917720"/>
            <a:ext cx="7164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917720"/>
            <a:ext cx="144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1917720"/>
            <a:ext cx="505080" cy="503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67440" y="3943440"/>
            <a:ext cx="3076560" cy="2928960"/>
          </a:xfrm>
          <a:prstGeom prst="rect">
            <a:avLst/>
          </a:prstGeom>
          <a:ln w="9360">
            <a:solidFill>
              <a:srgbClr val="005ab4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357280" y="3929040"/>
            <a:ext cx="3916440" cy="2928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392904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89000"/>
            <a:ext cx="8002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Arial"/>
              </a:rPr>
              <a:t>Ресурсы и сервисы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1955520"/>
            <a:ext cx="750888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	</a:t>
            </a:r>
            <a:r>
              <a:rPr b="1" i="1" lang="ru-RU" sz="4000" spc="-1" strike="noStrike">
                <a:solidFill>
                  <a:srgbClr val="2a6099"/>
                </a:solidFill>
                <a:latin typeface="Times New Roman"/>
                <a:ea typeface="Arial Narrow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2a6099"/>
                </a:solidFill>
                <a:latin typeface="Times New Roman"/>
                <a:ea typeface="Arial Narrow"/>
              </a:rPr>
              <a:t>познакомиться с электронной почтой и популярными сервисами обмена информацией и общения в сети Интерн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720720" y="298080"/>
            <a:ext cx="8228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Тема: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«Электронная почта и сервисы коллективного взаимодейств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43280" y="1341360"/>
            <a:ext cx="3543120" cy="413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69228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ая почта (e-mail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- это система обмена сообщениями (письмами) между абонентами компьютерных сете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2637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ысокая скорость пересылки сооб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645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пересылки прикреплён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айлов, содержащих графику, зву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465300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одновременной рассыл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исьма сразу нескольким адресат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1844640"/>
            <a:ext cx="7488360" cy="5763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имущества электронной поч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2421000"/>
            <a:ext cx="1440" cy="259236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2997360"/>
            <a:ext cx="100800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4005360"/>
            <a:ext cx="100800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5013360"/>
            <a:ext cx="100800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516640"/>
            <a:ext cx="842472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юбой пользователь Интернета может завести свой почтовый ящик - поименованную область дисковой памяти на почтовом сервере своего провайдера, куда будет помещаться входящая и исходящая корреспонденц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170028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&lt;имя_пользователя&gt;@&lt;имя_сервера&gt;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484360" y="4292640"/>
            <a:ext cx="3451320" cy="520560"/>
            <a:chOff x="2484360" y="4292640"/>
            <a:chExt cx="3451320" cy="520560"/>
          </a:xfrm>
        </p:grpSpPr>
        <p:sp>
          <p:nvSpPr>
            <p:cNvPr id="75" name=""/>
            <p:cNvSpPr/>
            <p:nvPr/>
          </p:nvSpPr>
          <p:spPr>
            <a:xfrm>
              <a:off x="2484360" y="4292640"/>
              <a:ext cx="107496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ul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65440" y="4292640"/>
              <a:ext cx="49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41800" y="4292640"/>
              <a:ext cx="85716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5440" y="4292640"/>
              <a:ext cx="35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65800" y="4292640"/>
              <a:ext cx="569880" cy="520560"/>
            </a:xfrm>
            <a:prstGeom prst="rect">
              <a:avLst/>
            </a:prstGeom>
            <a:solidFill>
              <a:srgbClr val="aee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11280" y="566100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26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я пользовател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6920" y="5661000"/>
            <a:ext cx="23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26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оменное им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2360" y="5661000"/>
            <a:ext cx="208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26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д стра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4869000"/>
            <a:ext cx="35276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4869000"/>
            <a:ext cx="18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914480" y="5300640"/>
            <a:ext cx="1224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5300640"/>
            <a:ext cx="18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4869000"/>
            <a:ext cx="180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4869000"/>
            <a:ext cx="18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730840" y="5300640"/>
            <a:ext cx="1224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5300640"/>
            <a:ext cx="180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189000"/>
            <a:ext cx="8002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Arial"/>
              </a:rPr>
              <a:t>Адрес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000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68360" y="119700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дрес электронной почты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276640"/>
            <a:ext cx="835344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вая часть выбирается самим пользователем; вторая часть жестко связана с сервером, на котором пользователь зарегистрировал свой почтовый ящик. Разделителем между частями адреса служит символ @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dur="indefinite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916360" y="191628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67280" y="1844640"/>
            <a:ext cx="1172880" cy="103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651640" y="1844640"/>
            <a:ext cx="610920" cy="946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940360" y="2637000"/>
            <a:ext cx="674640" cy="718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1773360"/>
            <a:ext cx="8424720" cy="1726920"/>
          </a:xfrm>
          <a:prstGeom prst="rect">
            <a:avLst/>
          </a:prstGeom>
          <a:noFill/>
          <a:ln w="284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2852640"/>
            <a:ext cx="792000" cy="289080"/>
          </a:xfrm>
          <a:prstGeom prst="rightArrow">
            <a:avLst>
              <a:gd name="adj1" fmla="val 50000"/>
              <a:gd name="adj2" fmla="val 68493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980000">
            <a:off x="3419640" y="263664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59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00000">
            <a:off x="5078520" y="241632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1947600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9640" y="292428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gradFill rotWithShape="0">
            <a:gsLst>
              <a:gs pos="0">
                <a:srgbClr val="aeedf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500280"/>
            <a:ext cx="208764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тправитель наб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ет сообщени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казывает адрес получателя и от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авля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сервер ис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щей поч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3500280"/>
            <a:ext cx="1656000" cy="11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рвер исходя-щей почты на-правляет сооб-щение по ук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нному адр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3500280"/>
            <a:ext cx="144144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 Интернету письмо пер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аётся на сер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ер входящей почты, указан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ый в адресе получ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08720" y="3500280"/>
            <a:ext cx="151128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ервер вход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щей почты п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щает пись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почтов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ящик получа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3500280"/>
            <a:ext cx="165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24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лучатель открывает свой почтовый ящик и получает доступ к поступившим к нему письм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7596360" y="2060640"/>
            <a:ext cx="13014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539640" y="1916280"/>
            <a:ext cx="1892520" cy="1322280"/>
            <a:chOff x="539640" y="1916280"/>
            <a:chExt cx="1892520" cy="1322280"/>
          </a:xfrm>
        </p:grpSpPr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1889280" y="1916280"/>
              <a:ext cx="5428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539640" y="1916280"/>
              <a:ext cx="1295640" cy="13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684360" y="404640"/>
            <a:ext cx="8002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Arial"/>
              </a:rPr>
              <a:t>Схема работы электронной поч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nodeType="clickEffect" fill="hold">
                      <p:stCondLst>
                        <p:cond delay="0"/>
                      </p:stCondLst>
                      <p:childTnLst>
                        <p:par>
                          <p:cTn id="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dur="indefinite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dur="indefinite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dur="indefinite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dur="indefinite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dur="indefinite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4360" y="189000"/>
            <a:ext cx="8002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Arial"/>
              </a:rPr>
              <a:t>Сетевое коллективное взаимо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6360" y="1413000"/>
            <a:ext cx="6767640" cy="576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ормы коллектив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249228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леконфере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3573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458136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5661000"/>
            <a:ext cx="2305080" cy="64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2276640"/>
            <a:ext cx="4968720" cy="107928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обмена информацией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я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граничена в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лагает набор разде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4581360"/>
            <a:ext cx="4968720" cy="79092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рвис группового общ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режиме реального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5661000"/>
            <a:ext cx="4968720" cy="790560"/>
          </a:xfrm>
          <a:prstGeom prst="roundRect">
            <a:avLst>
              <a:gd name="adj" fmla="val 16667"/>
            </a:avLst>
          </a:prstGeom>
          <a:solidFill>
            <a:srgbClr val="e1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активные многопользователь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ай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90120" y="1700280"/>
            <a:ext cx="792360" cy="144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1700280"/>
            <a:ext cx="1440" cy="42498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781360"/>
            <a:ext cx="35856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3933720"/>
            <a:ext cx="358560" cy="1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941720"/>
            <a:ext cx="358560" cy="1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5856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2781360"/>
            <a:ext cx="57636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3933720"/>
            <a:ext cx="576360" cy="1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4941720"/>
            <a:ext cx="576360" cy="180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5950080"/>
            <a:ext cx="576360" cy="1440"/>
          </a:xfrm>
          <a:prstGeom prst="line">
            <a:avLst/>
          </a:prstGeom>
          <a:ln w="3816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92360" y="907920"/>
            <a:ext cx="2305080" cy="576360"/>
          </a:xfrm>
          <a:prstGeom prst="rect">
            <a:avLst/>
          </a:prstGeom>
          <a:solidFill>
            <a:srgbClr val="99ff99"/>
          </a:solidFill>
          <a:ln w="5724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втор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9080" y="2131920"/>
            <a:ext cx="1584000" cy="43200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ог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5080" y="2131920"/>
            <a:ext cx="1584360" cy="432000"/>
          </a:xfrm>
          <a:prstGeom prst="roundRect">
            <a:avLst>
              <a:gd name="adj" fmla="val 16667"/>
            </a:avLst>
          </a:prstGeom>
          <a:solidFill>
            <a:srgbClr val="ff7d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аро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58840" y="1484280"/>
            <a:ext cx="64764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61080" y="1484280"/>
            <a:ext cx="57600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2392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aeedf4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1197000"/>
            <a:ext cx="1584360" cy="86508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кр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льз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130480" y="1995480"/>
            <a:ext cx="504720" cy="2872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35560" y="1989000"/>
            <a:ext cx="503280" cy="358920"/>
          </a:xfrm>
          <a:prstGeom prst="line">
            <a:avLst/>
          </a:prstGeom>
          <a:ln w="28440">
            <a:solidFill>
              <a:srgbClr val="005ab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3959280"/>
            <a:ext cx="3025800" cy="431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 совпадает с лог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060720"/>
            <a:ext cx="4319640" cy="539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оит не менее чем из 6-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повторяющихся симв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6160" y="5805360"/>
            <a:ext cx="6333840" cy="674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мволы не образуют никаких слов, чисел, аббревиату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язанных с пользов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321300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ст для запоми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65760" y="2563920"/>
            <a:ext cx="473040" cy="1395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59280" y="2563920"/>
            <a:ext cx="325440" cy="6476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505040" y="2563920"/>
            <a:ext cx="793800" cy="4953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189000"/>
            <a:ext cx="8002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Доступ к сервис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959280"/>
            <a:ext cx="4319640" cy="53964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ключает строчные и прописные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0720" y="4859280"/>
            <a:ext cx="4859280" cy="720720"/>
          </a:xfrm>
          <a:prstGeom prst="roundRect">
            <a:avLst>
              <a:gd name="adj" fmla="val 16667"/>
            </a:avLst>
          </a:prstGeom>
          <a:solidFill>
            <a:srgbClr val="ffd9ff"/>
          </a:solidFill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меет хотя бы один специальный 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@ # % $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8720" y="2563920"/>
            <a:ext cx="431640" cy="324144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23960" y="2562120"/>
            <a:ext cx="217800" cy="229896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13480" y="2571840"/>
            <a:ext cx="326880" cy="1388880"/>
          </a:xfrm>
          <a:prstGeom prst="line">
            <a:avLst/>
          </a:prstGeom>
          <a:ln w="28440">
            <a:solidFill>
              <a:srgbClr val="005ab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dur="indefinite" fill="hold">
                            <p:stCondLst>
                              <p:cond delay="2001"/>
                            </p:stCondLst>
                            <p:childTnLst>
                              <p:par>
                                <p:cTn id="130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2001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3002"/>
                            </p:stCondLst>
                            <p:childTnLst>
                              <p:par>
                                <p:cTn id="137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3002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4003"/>
                            </p:stCondLst>
                            <p:childTnLst>
                              <p:par>
                                <p:cTn id="144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dur="indefinite" fill="hold">
                            <p:stCondLst>
                              <p:cond delay="4003"/>
                            </p:stCondLst>
                            <p:childTnLst>
                              <p:par>
                                <p:cTn id="1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dur="indefinite" fill="hold">
                            <p:stCondLst>
                              <p:cond delay="5004"/>
                            </p:stCondLst>
                            <p:childTnLst>
                              <p:par>
                                <p:cTn id="151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fill="hold">
                            <p:stCondLst>
                              <p:cond delay="5005"/>
                            </p:stCondLst>
                            <p:childTnLst>
                              <p:par>
                                <p:cTn id="154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dur="indefinite" fill="hold">
                            <p:stCondLst>
                              <p:cond delay="5006"/>
                            </p:stCondLst>
                            <p:childTnLst>
                              <p:par>
                                <p:cTn id="1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dur="indefinite" fill="hold">
                            <p:stCondLst>
                              <p:cond delay="6006"/>
                            </p:stCondLst>
                            <p:childTnLst>
                              <p:par>
                                <p:cTn id="161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dur="indefinite" fill="hold">
                            <p:stCondLst>
                              <p:cond delay="6007"/>
                            </p:stCondLst>
                            <p:childTnLst>
                              <p:par>
                                <p:cTn id="1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dur="indefinite" fill="hold">
                            <p:stCondLst>
                              <p:cond delay="7007"/>
                            </p:stCondLst>
                            <p:childTnLst>
                              <p:par>
                                <p:cTn id="168" dur="indefinite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/>
  <dcterms:modified xsi:type="dcterms:W3CDTF">2025-02-05T17:20:03Z</dcterms:modified>
  <cp:revision>151</cp:revision>
  <dc:subject/>
  <dc:title>Презентация PowerPoint</dc:title>
</cp:coreProperties>
</file>